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4ECD-9C8D-46CB-9917-90EFDCA4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4A6-383B-4FAC-A8E3-18D98CC5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2D4B-EA97-4A89-8860-8550BCD5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CBCE-DDD4-489E-99DF-9CFD33E7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4B46-E52E-435B-93E8-63D44B1C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9288-6E34-47DB-A6B6-89127DCD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AD00-82FD-4F83-912C-CD58A98E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F2C1-44DA-40DE-A599-4F56F5D4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CF88-4B9E-4F77-82C2-D09CF0BB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ED02-76D9-476B-B1D0-44BED63D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B462-A460-4ACA-9AF2-B7E01809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81A-0EE9-46CE-BADC-CD6E6DD6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5ED4-64FC-482D-9A10-B4ADAE06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397A-D55E-4698-9EBE-E3837F63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DDA5-E90D-46F6-9CBF-A4C43F98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B526-B9DA-4A53-994B-1CEC8CF1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B52A-2548-4FC8-90C2-071393D6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B62C-7350-4F09-95B2-3BEFAA02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C1E2-46F1-4269-AE6B-F909D5FE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7C24-70EB-4940-ACD7-6D73ACD6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17D5-69D1-4F21-8812-B1D9AC78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0611-26C0-44C3-8D59-0FE7B368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8517-CBE7-4199-AB0C-B5F1FA9F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4511-FDD9-455D-B541-DA576983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1D01-29DA-480D-93F1-80F0DD90A6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8F69-8F83-49BF-B6CC-2EABC53A78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z.about.com/d/gospain/1/0/L/H/-/-/codpeppers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6666"/>
                </a:solidFill>
                <a:uFillTx/>
                <a:latin typeface="Arial"/>
              </a:rPr>
              <a:t>Spain</a:t>
            </a:r>
            <a:br>
              <a:rPr sz="5400"/>
            </a:b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</a:rPr>
              <a:t>created By: Jada A. and Caroline W.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38280" y="3591000"/>
            <a:ext cx="426744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Rivers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168520" y="1827360"/>
            <a:ext cx="334332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29680" indent="-2296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ain Has many important rivers. This river is called the Toja  River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29680" indent="-2296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29680" indent="-2296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toja river is the longest river in Spain. It is 1,007 Km from 1,007 kms  from Albaraccin to Lisboa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29680" indent="-2296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29680" indent="-2296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29680" indent="-2296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48320" y="990720"/>
            <a:ext cx="4038480" cy="476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403848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Kristen ITC"/>
              </a:rPr>
              <a:t>     </a:t>
            </a:r>
            <a:r>
              <a:rPr b="0" lang="en-US" sz="6600" spc="-1" strike="noStrike">
                <a:solidFill>
                  <a:srgbClr val="006666"/>
                </a:solidFill>
                <a:latin typeface="Kristen ITC"/>
              </a:rPr>
              <a:t>Population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cccc"/>
                </a:solidFill>
                <a:latin typeface="Verdana"/>
              </a:rPr>
              <a:t>There is a lot of people in Spain. Today there is more than 40 billion peo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cccc"/>
                </a:solidFill>
                <a:latin typeface="Verdana"/>
              </a:rPr>
              <a:t>More tha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cccc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33cccc"/>
                </a:solidFill>
                <a:latin typeface="Verdana"/>
              </a:rPr>
              <a:t>20 million touri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cccc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33cccc"/>
                </a:solidFill>
                <a:latin typeface="Verdana"/>
              </a:rPr>
              <a:t>visit Spain each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cccc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33cccc"/>
                </a:solidFill>
                <a:latin typeface="Verdana"/>
              </a:rPr>
              <a:t>yea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00600" y="2971800"/>
            <a:ext cx="36957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Kristen ITC"/>
              </a:rPr>
              <a:t>         </a:t>
            </a:r>
            <a:r>
              <a:rPr b="0" lang="en-US" sz="5400" spc="-1" strike="noStrike">
                <a:solidFill>
                  <a:srgbClr val="006666"/>
                </a:solidFill>
                <a:latin typeface="Kristen ITC"/>
              </a:rPr>
              <a:t>Traditions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ain has a very unique culture and flag.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tead of calling there holiday Christmas the call it Hogueras or  bonfire which means Christm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419112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410080" y="4495680"/>
            <a:ext cx="23529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Kristen ITC"/>
              </a:rPr>
              <a:t> </a:t>
            </a:r>
            <a:r>
              <a:rPr b="0" lang="en-US" sz="5400" spc="-1" strike="noStrike">
                <a:solidFill>
                  <a:srgbClr val="006666"/>
                </a:solidFill>
                <a:latin typeface="Kristen ITC"/>
              </a:rPr>
              <a:t>Physical Geography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iede mountai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the highe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untain i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ai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2,198 f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Image - Google Maps"/>
          <p:cNvPicPr/>
          <p:nvPr/>
        </p:nvPicPr>
        <p:blipFill>
          <a:blip r:embed="rId1"/>
          <a:stretch/>
        </p:blipFill>
        <p:spPr>
          <a:xfrm>
            <a:off x="1143000" y="4495680"/>
            <a:ext cx="2819520" cy="2130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5434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s is deep fried peppers stuffed with cod. People in Spain eat this meal on Hoguer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676520" y="304920"/>
            <a:ext cx="71625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od from spain!!!!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pimientos rellenos de bacala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3276720"/>
            <a:ext cx="3886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3581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red and golden-yellow colors of Spain's flag were first used in the late 1700s by the King of Spain. They're also the original colors found within the arms of both th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astile and Arag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regions of the countr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9:24:34Z</dcterms:created>
  <dc:creator>jadaalexander</dc:creator>
  <dc:description/>
  <dc:language>en-US</dc:language>
  <cp:lastModifiedBy>jadaalexander</cp:lastModifiedBy>
  <dcterms:modified xsi:type="dcterms:W3CDTF">2009-02-13T19:13:45Z</dcterms:modified>
  <cp:revision>4</cp:revision>
  <dc:subject/>
  <dc:title>Spain created By: Jada and Caroline</dc:title>
</cp:coreProperties>
</file>